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1C2-6901-4E1F-B701-2792FE57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BFD-1B4F-46AE-BD0B-1DF6C0A6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B11-829F-4909-AEFE-1C3493EE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717-E0A0-4668-8664-02018442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B47C-1C7F-4D66-B1EF-C65BA926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B5FE-8BCA-4196-9F4A-4B397614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0B09-EDCF-4FFD-AC71-D0E7EB43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4CB-8E55-4E92-8600-694CE24F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BA5F-EECE-45EA-9300-56E6D50C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9D6B-2293-4246-80BB-64BABB9F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A35A-BE7B-4925-84B0-B068BC5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7357-75E0-41EC-BC66-DFB8FFEC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20D1-16C8-4511-8ED8-C73CAA2B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80F-1ADA-49E2-9EAD-B438D949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A39-4C38-456C-B784-72AF18B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12BA-206C-49A3-88B4-FAF990B4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BB0-83C1-4CE2-B716-730AC22F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4F11-6DEC-44A4-A342-3B51CE6E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87E8-14C6-441E-88F9-2623D48F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B8AC-82D0-4768-BB97-5B789E59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1AC0-283D-498D-9805-7EEB23B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BA30-29FB-4608-92FE-32D1BF87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C8CD-2E10-4950-9369-ACA453C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2BC1-A9E6-4A56-B3E8-652142A1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0BEE-04C9-4DB5-8E05-84F0D22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AC75B-B153-45FA-90B9-166DFC40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4371-B769-4CF9-A4E2-42552AD1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2D08-0643-4A72-A514-BA9C09F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745CF-CBFA-4DFF-97CA-1580AB4D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C986-AF59-4BFE-BDC1-E352227E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0BD-5459-4116-9C2E-CD5DCE47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924-6EDE-4267-ACE4-8637B7B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844-367F-492D-8489-7A97869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01A-94AA-42E4-AA8C-D65646D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5A6-5063-44F6-ABD9-57DC4FC9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3DD-63B7-4652-931B-EFF105F8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25D7-1F4A-4F8F-9191-EE201010A4AE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0A4-D0A8-4E42-A279-64205EBBE1D4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112B-3F19-41A5-9C27-B30FA159F92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4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7724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Transition metals in the periodic table"/>
          <p:cNvPicPr/>
          <p:nvPr/>
        </p:nvPicPr>
        <p:blipFill>
          <a:blip r:embed="rId2"/>
          <a:stretch/>
        </p:blipFill>
        <p:spPr>
          <a:xfrm>
            <a:off x="609480" y="22860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6095880" y="198108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ition Metals have slightly different rules for shells and valence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609588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s something you will learn about in High School Chemi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– matter made up of only one kind 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115-120 known el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0 naturally occurring elements, plus synthetic elements -  made by scientis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marL="628560" indent="-46260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Table – a chart that organizes and displays information about the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8560" indent="-46260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ic number – the top number in the element’s periodic table blo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0000" indent="-46296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ls the number of protons in the nucleus of each atom of that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0000" indent="-46296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mber of protons remains constant in every atom of an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28560" indent="-46260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top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toms of the same element that have different numbers of neutr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ss numb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number of protons plus number of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tomic mas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the number found below the element sym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ighted average mass of an atom of an el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unit used for atomic mass i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omic mass un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is given the symbol “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or 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1.67377 x 10 </a:t>
            </a:r>
            <a:r>
              <a:rPr b="0" lang="fr-FR" sz="2200" spc="-1" strike="noStrike" baseline="30000">
                <a:solidFill>
                  <a:srgbClr val="000000"/>
                </a:solidFill>
                <a:latin typeface="Verdana"/>
              </a:rPr>
              <a:t>-24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gra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fall into three general groups characterized by similar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most of th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iny 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conductors of heat and electr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re solids at room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leable, or can be sha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ctile, or can be drawn into wir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nmet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on the right side of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ll in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or conductors of heat and electri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are gase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ittle, cannot change shape 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7% of the human body is made up of nonmet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alloi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between the metals and nonmetals on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characteristics of both metals and non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conduct heat and electricity as well as 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re solid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1" descr=""/>
          <p:cNvPicPr/>
          <p:nvPr/>
        </p:nvPicPr>
        <p:blipFill>
          <a:blip r:embed="rId1"/>
          <a:stretch/>
        </p:blipFill>
        <p:spPr>
          <a:xfrm>
            <a:off x="609480" y="512640"/>
            <a:ext cx="2590920" cy="925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Periodic Table showing Periods"/>
          <p:cNvPicPr/>
          <p:nvPr/>
        </p:nvPicPr>
        <p:blipFill>
          <a:blip r:embed="rId2"/>
          <a:stretch/>
        </p:blipFill>
        <p:spPr>
          <a:xfrm>
            <a:off x="380880" y="2438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36576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called a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tangle 5" descr=""/>
          <p:cNvPicPr/>
          <p:nvPr/>
        </p:nvPicPr>
        <p:blipFill>
          <a:blip r:embed="rId3"/>
          <a:stretch/>
        </p:blipFill>
        <p:spPr>
          <a:xfrm>
            <a:off x="5065560" y="2286000"/>
            <a:ext cx="3700440" cy="46368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6" descr=""/>
          <p:cNvPicPr/>
          <p:nvPr/>
        </p:nvPicPr>
        <p:blipFill>
          <a:blip r:embed="rId4"/>
          <a:stretch/>
        </p:blipFill>
        <p:spPr>
          <a:xfrm>
            <a:off x="5078520" y="2895480"/>
            <a:ext cx="3852720" cy="4636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7" descr=""/>
          <p:cNvPicPr/>
          <p:nvPr/>
        </p:nvPicPr>
        <p:blipFill>
          <a:blip r:embed="rId5"/>
          <a:stretch/>
        </p:blipFill>
        <p:spPr>
          <a:xfrm>
            <a:off x="5072040" y="3425760"/>
            <a:ext cx="3913200" cy="46980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8" descr=""/>
          <p:cNvPicPr/>
          <p:nvPr/>
        </p:nvPicPr>
        <p:blipFill>
          <a:blip r:embed="rId6"/>
          <a:stretch/>
        </p:blipFill>
        <p:spPr>
          <a:xfrm>
            <a:off x="5048280" y="4035600"/>
            <a:ext cx="3913200" cy="469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3657600" y="12193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s in each period have the same number of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200400" cy="115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Periodic Table showing Groups"/>
          <p:cNvPicPr/>
          <p:nvPr/>
        </p:nvPicPr>
        <p:blipFill>
          <a:blip r:embed="rId2"/>
          <a:stretch/>
        </p:blipFill>
        <p:spPr>
          <a:xfrm>
            <a:off x="457200" y="25909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5638680" y="2590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olumn is called a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5638680" y="335268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element in a group has the same number of electrons in their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ctangle 8" descr=""/>
          <p:cNvPicPr/>
          <p:nvPr/>
        </p:nvPicPr>
        <p:blipFill>
          <a:blip r:embed="rId3"/>
          <a:stretch/>
        </p:blipFill>
        <p:spPr>
          <a:xfrm>
            <a:off x="682560" y="1444680"/>
            <a:ext cx="3968640" cy="46980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10"/>
          <p:cNvCxnSpPr/>
          <p:nvPr/>
        </p:nvCxnSpPr>
        <p:spPr>
          <a:xfrm flipH="1">
            <a:off x="837360" y="1980720"/>
            <a:ext cx="22932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4" name="Rectangle 13" descr=""/>
          <p:cNvPicPr/>
          <p:nvPr/>
        </p:nvPicPr>
        <p:blipFill>
          <a:blip r:embed="rId4"/>
          <a:stretch/>
        </p:blipFill>
        <p:spPr>
          <a:xfrm>
            <a:off x="1371600" y="1981080"/>
            <a:ext cx="3962520" cy="46368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14"/>
          <p:cNvCxnSpPr/>
          <p:nvPr/>
        </p:nvCxnSpPr>
        <p:spPr>
          <a:xfrm flipH="1">
            <a:off x="1218600" y="2437920"/>
            <a:ext cx="61020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6" name="Rectangle 16" descr=""/>
          <p:cNvPicPr/>
          <p:nvPr/>
        </p:nvPicPr>
        <p:blipFill>
          <a:blip r:embed="rId5"/>
          <a:stretch/>
        </p:blipFill>
        <p:spPr>
          <a:xfrm>
            <a:off x="4724280" y="762120"/>
            <a:ext cx="3962520" cy="46332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17"/>
          <p:cNvCxnSpPr/>
          <p:nvPr/>
        </p:nvCxnSpPr>
        <p:spPr>
          <a:xfrm flipH="1">
            <a:off x="5180760" y="1218960"/>
            <a:ext cx="83916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TextBox 20"/>
          <p:cNvSpPr/>
          <p:nvPr/>
        </p:nvSpPr>
        <p:spPr>
          <a:xfrm>
            <a:off x="63244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Except for He, it has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-Point Star 21"/>
          <p:cNvSpPr/>
          <p:nvPr/>
        </p:nvSpPr>
        <p:spPr>
          <a:xfrm>
            <a:off x="4952880" y="274320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-Point Star 23"/>
          <p:cNvSpPr/>
          <p:nvPr/>
        </p:nvSpPr>
        <p:spPr>
          <a:xfrm>
            <a:off x="5943600" y="18288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5638680" y="5334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lectrons in the outer shell are called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vale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electrons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tangle 18" descr=""/>
          <p:cNvPicPr/>
          <p:nvPr/>
        </p:nvPicPr>
        <p:blipFill>
          <a:blip r:embed="rId6"/>
          <a:stretch/>
        </p:blipFill>
        <p:spPr>
          <a:xfrm>
            <a:off x="3273480" y="2657520"/>
            <a:ext cx="1755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dc:language>en-US</dc:language>
  <cp:lastModifiedBy>St. Aloysius</cp:lastModifiedBy>
  <dcterms:modified xsi:type="dcterms:W3CDTF">2012-12-13T15:36:16Z</dcterms:modified>
  <cp:revision>57</cp:revision>
  <dc:subject/>
  <dc:title>Slide 1</dc:title>
</cp:coreProperties>
</file>